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B8295-B9BF-44F7-AE4F-BF6F0D6C5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49AB-5360-4F6A-9DF1-8E4020C6A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4355F-D3EA-468C-B5F6-C091281E0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B0A03-8F74-4BCA-A085-9A6B22783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26B75-ECC5-4C57-820F-FB7044453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1723C-40C0-4A6E-8A47-639BFAA0A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DDE46-2D67-45C0-B8E2-255501E49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857C8-503B-477A-870A-AF4E832EB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5CEE9-6F5E-4A74-9E01-3A9B53CA2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00B9D-9918-4409-9341-AF4D68145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99CF8-7EC0-49B7-A8F9-6E02AB4F5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613D-BAC9-4BE6-9F98-467073F1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AB10E-C30A-45F4-AB3C-F94712686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FFB23-F65E-459C-B0D9-C82A4C4F0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324B-BCE2-4885-BB12-0F9350B5C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84901-4BCF-4306-8309-0491D9B2E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6D337-3633-4C08-A1BA-C0E873120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8EFF8-D494-4456-AE68-3F2943EA27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231BF-FB54-432E-B27A-F5EAD38DE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FF183-6156-4570-94CD-DE571C9D4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EEBF6-0580-43A4-A867-57BB9CCB4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E4E54-2FEF-4182-9493-2130159D7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769CD-4D08-4BB5-8AA7-D47089725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840CE-B2E8-4800-9EF2-558FF3983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1D38A-FCD7-413C-B0C9-D97167E83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76462-2225-4BCF-AE8B-5BD21EA23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8798E-78F6-40D5-8258-415465CAE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7417A-4CE8-447C-AD8F-86AD9494E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CD922D-191A-4246-88A3-A0F26F7A5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D587AC-C718-46BE-933D-2B236581D7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E14D15-A521-4EBA-A47A-B7D778B21D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761E5-7920-4395-BF47-B1C690207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54AF4-B929-42C0-8079-1FC7E4CF7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AEF1-38A4-4A8A-A06A-656F046AB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3E225-C6DD-4ADF-ABCC-CEAE0C7E7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1C38E8-DCDB-46E5-B2BE-3ABA9EECD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CD7E1-989F-4F9A-8DE9-0318DC730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74D5D-BC17-483B-96F0-B1CCB926E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8EA9A-109F-49F1-B21F-B45422575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A548F-DF84-40CE-A1AC-D7A0A634C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66E40-6D3B-41A0-8A84-673AFDACF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A62F80-36C0-44C9-82A2-D28F7668C3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E52AA9-C0B2-4147-BFF5-CB88DB4B5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304463-3AAC-416B-AEAD-DDE82DD5E7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5ED4-3853-4BE8-B5DA-40CE97A4A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A6319-27C7-490A-815A-72A51C224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727AB-D026-49DA-B6F3-63B7D86BC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52724-1135-4080-980B-7AEFDB99B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04D6DA-6FFB-437A-9736-A07511D4F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81FA3-CC0B-4160-B514-6016FBD09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761DA-5CF4-49AC-AD19-42A18AEFC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BCC41-CD78-404E-9EE2-0E34812D8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C8711-AC27-43EA-A406-4AF3DED75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0C08F1-DCD9-4EBB-BC06-520B71BB0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DEFED-8388-493E-AD1A-BAF0FE3D60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DF18C-8575-48E4-88FF-A014BDDA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BBB7C5-B4F3-41ED-8021-C6F29BC5A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2CB10E-D586-44CB-8557-46B97BFF96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53D91-028E-4D9B-9EE0-81CB30A0C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3FEA3-1F48-4368-80F3-F09813FFFC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07DF8-5F0A-49CA-99A7-C9BE2C041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DC311-B333-42EA-86FA-CBC2B620D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6C0888-FE06-421F-A6D1-82B798EEA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35987-FC71-49D7-BB34-FFD4024EC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7630E0-C9EE-4707-A3C6-1FC8E40B4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2EA8F-77A4-405C-BA49-261BF47AD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CBD51-46D5-4922-9E69-5DAF0738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F1B3F-156B-4226-8186-D39E89C73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7B4E3B-796B-4393-9EA7-07DCDC05A7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CA5F60-7F25-45D1-B85D-9630EF3D25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13A6CE-A35E-4ABE-900C-79AF1B5647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9C21E-6591-479F-8ECA-8D209DC6F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0E906-FC82-44AB-A868-45560B1B6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CF17F-13E3-4DAA-A386-8EB28AF2C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325C8-7D8C-4F11-B9DB-CD1DA6B2D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1173C-BF89-41BF-A7C5-B43FF5E6E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E84F8-DD23-4AC4-913C-D25A55A72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F738-BBCF-40D1-94C5-5E8749B12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B0E08-7F07-4F07-A059-99E05BEC6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A6AE5-C1D3-43B0-8D49-5F050C1C1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DA68E-83C1-43C8-B246-01E5354F11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C24C6-20DC-4406-B4C0-C15B9237A9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17E73D-EA59-4F61-AB56-A16F850E10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5F17A2-A6DD-42CD-9A2B-8764AF3ACB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DC6389-E628-421B-BD8C-F48AA75A99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BDDFE-EFC9-4303-B50D-AE3E1A1FEB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7A4CF-2085-4A12-AA4B-BAB461C9B1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859CD-0A70-4B0B-A7AB-E740842293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3207-EF9C-4205-A327-F7F4A078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8038F-4883-4C0D-B55F-2C2D2C7221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249A1-BDB8-46C0-BCE6-7A0481428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95E566-422B-48EA-A27A-10372FDF6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295FA-2BD2-48B4-BCD3-34AC3CB86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A43AC-AA74-4747-AB2C-4E2DF15D1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AC60F8-966C-4EBC-8BA0-2205D4C317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A5356F-263D-40DC-A779-F712C86DE2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A35C-4C5D-40BA-920C-46BB6A731F3F}"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6825-8B84-41C2-9AAE-C26555D15669}"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703B-3B3A-46F8-87A6-325DB164D541}"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D6BA-DE50-4314-9D6B-BF3C3C1D3853}"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1999-A643-4078-9DE2-B2927A664C37}"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BC1D-A410-4AA6-B1D0-49D362BB1FD3}"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82B8-AE9B-4EAC-89B4-4D06F10CA476}"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18DE-C703-40EE-A1FD-B1398872A88B}"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3000" y="2514600"/>
            <a:ext cx="7772400" cy="19749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angers Apprentice:</a:t>
            </a:r>
            <a:br>
              <a:rPr sz="3200"/>
            </a:br>
            <a:r>
              <a:rPr b="0" lang="en-US" sz="3200" spc="-1" strike="noStrike">
                <a:solidFill>
                  <a:srgbClr val="ffffff"/>
                </a:solidFill>
                <a:latin typeface="Bookman Old Style"/>
              </a:rPr>
              <a:t>The Lost Stories</a:t>
            </a:r>
            <a:endParaRPr b="0" lang="en-US" sz="3200" spc="-1" strike="noStrike">
              <a:solidFill>
                <a:srgbClr val="7f7f7f"/>
              </a:solidFill>
              <a:latin typeface="Bookman Old Style"/>
            </a:endParaRPr>
          </a:p>
        </p:txBody>
      </p:sp>
      <p:sp>
        <p:nvSpPr>
          <p:cNvPr id="353" name="PlaceHolder 2"/>
          <p:cNvSpPr>
            <a:spLocks noGrp="1"/>
          </p:cNvSpPr>
          <p:nvPr>
            <p:ph type="subTitle"/>
          </p:nvPr>
        </p:nvSpPr>
        <p:spPr>
          <a:xfrm>
            <a:off x="1143000" y="4038120"/>
            <a:ext cx="6400800" cy="175284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y John Flanagan</a:t>
            </a:r>
            <a:endParaRPr b="0" lang="en-US" sz="2000" spc="-1" strike="noStrike">
              <a:solidFill>
                <a:srgbClr val="ffffff"/>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Presentation by Zach Hafner</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Genre</a:t>
            </a:r>
            <a:endParaRPr b="0" lang="en-US" sz="3200" spc="-1" strike="noStrike">
              <a:solidFill>
                <a:srgbClr val="7f7f7f"/>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e Genre of this book is a very serious fantasy of all </a:t>
            </a:r>
            <a:r>
              <a:rPr b="0" lang="en-US" sz="3200" spc="-1" strike="noStrike">
                <a:solidFill>
                  <a:srgbClr val="ffffff"/>
                </a:solidFill>
                <a:latin typeface="Gill Sans MT"/>
              </a:rPr>
              <a:t>10</a:t>
            </a:r>
            <a:r>
              <a:rPr b="0" lang="en-US" sz="2600" spc="-1" strike="noStrike">
                <a:solidFill>
                  <a:srgbClr val="ffffff"/>
                </a:solidFill>
                <a:latin typeface="Gill Sans MT"/>
              </a:rPr>
              <a:t> books and fills in gaps were the author left out what happened to the certain character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Summary</a:t>
            </a:r>
            <a:endParaRPr b="0" lang="en-US" sz="3200" spc="-1" strike="noStrike">
              <a:solidFill>
                <a:srgbClr val="7f7f7f"/>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s book tells what happens to Will’s mother.  It tells what Gilan does while Halt goes after Will after he is captured by the Skaindians in book 2.  It tells secrets that are very surprising. It tells who was Halt’s mentor and how he became a ranger.</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Pictures</a:t>
            </a:r>
            <a:endParaRPr b="0" lang="en-US" sz="3200" spc="-1" strike="noStrike">
              <a:solidFill>
                <a:srgbClr val="7f7f7f"/>
              </a:solidFill>
              <a:latin typeface="Bookman Old Style"/>
            </a:endParaRPr>
          </a:p>
        </p:txBody>
      </p:sp>
      <p:pic>
        <p:nvPicPr>
          <p:cNvPr id="359" name="Content Placeholder 3" descr="WILL AND EBONY.jpg"/>
          <p:cNvPicPr/>
          <p:nvPr/>
        </p:nvPicPr>
        <p:blipFill>
          <a:blip r:embed="rId1"/>
          <a:stretch/>
        </p:blipFill>
        <p:spPr>
          <a:xfrm>
            <a:off x="380880" y="2209680"/>
            <a:ext cx="5303880" cy="3978360"/>
          </a:xfrm>
          <a:prstGeom prst="rect">
            <a:avLst/>
          </a:prstGeom>
          <a:ln w="0">
            <a:noFill/>
          </a:ln>
        </p:spPr>
      </p:pic>
      <p:pic>
        <p:nvPicPr>
          <p:cNvPr id="360" name="Picture 4" descr="THE LOST STORIES.jpg"/>
          <p:cNvPicPr/>
          <p:nvPr/>
        </p:nvPicPr>
        <p:blipFill>
          <a:blip r:embed="rId2"/>
          <a:stretch/>
        </p:blipFill>
        <p:spPr>
          <a:xfrm>
            <a:off x="5943600" y="2209680"/>
            <a:ext cx="2743200" cy="379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Recommendation</a:t>
            </a:r>
            <a:endParaRPr b="0" lang="en-US" sz="3200" spc="-1" strike="noStrike">
              <a:solidFill>
                <a:srgbClr val="7f7f7f"/>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 would recommend this book to my Uncle Chance. He always loves action book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Bonus</a:t>
            </a:r>
            <a:endParaRPr b="0" lang="en-US" sz="3200" spc="-1" strike="noStrike">
              <a:solidFill>
                <a:srgbClr val="7f7f7f"/>
              </a:solidFill>
              <a:latin typeface="Bookman Old Style"/>
            </a:endParaRPr>
          </a:p>
        </p:txBody>
      </p:sp>
      <p:sp>
        <p:nvSpPr>
          <p:cNvPr id="364" name=""/>
          <p:cNvSpPr txBox="1"/>
          <p:nvPr/>
        </p:nvSpPr>
        <p:spPr>
          <a:xfrm>
            <a:off x="304920" y="114300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Gill Sans MT"/>
              </a:rPr>
              <a:t>If I could ask the Will any questions I would ask how he must of felt when Tug was crippled and had to be retired because he limped due to a wolf attack on his leg and how did he feel about</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21:13:48Z</dcterms:created>
  <dc:creator>Chris Hafner</dc:creator>
  <dc:description/>
  <dc:language>en-US</dc:language>
  <cp:lastModifiedBy>Owner</cp:lastModifiedBy>
  <dcterms:modified xsi:type="dcterms:W3CDTF">2012-05-06T21:40:00Z</dcterms:modified>
  <cp:revision>5</cp:revision>
  <dc:subject/>
  <dc:title>Rangers Apprentice: The Lost Stories</dc:title>
</cp:coreProperties>
</file>